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5EB4-084B-4094-9808-80016311C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D273-E177-4B6A-B08A-C2EEA065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DD1D-D122-4B0B-B00E-EFC864919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5B0E-A7E5-47C2-84C3-E8763D643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20768-D70E-47AD-BE82-54761EB88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DF47B-8EDF-4D0D-B804-9C15F12D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16B684-44DA-4C13-87F2-3AAB8A82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12B38C-7BED-42BF-A263-235FF1A4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6622A-C29D-49E8-B359-2AAA57C2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5A72E7-8E54-4238-91C5-9B0E0088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3A7757-17B0-426D-BC8A-5B0CCA2F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DD64-678E-48ED-9E05-8187A381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B60C49-72B4-42F7-BB74-D46507C7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76C34-856B-415F-89C0-EF71B0F0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7ECC02-C473-47BD-9403-82C29EE7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09D26-755D-488B-9745-A3A7885E1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A27300-79E8-4A31-9685-70AC13720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22D92-48EC-41CF-8D52-01CCD8FFB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DEE35-2D2C-4B49-A142-4E1475F9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61BFF-E7A8-460B-8DC8-56FA1DCC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F1AEB-2F68-4BEE-B357-B6ED4EA5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C1C1D-BD6A-4B72-B3A1-8FC22213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FA3E-A198-4E04-8537-8993B189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00733-5F56-4DD4-94B4-1303B379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AB9EF-8334-4CE0-A722-34D2AD88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4F74A-00CC-4259-BA41-9CD5028D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90762-DA23-4BCB-AA0F-5352CD77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4C7CE-9C08-4B94-A7C7-B513DC71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E3A98-5E35-44A7-AAB9-4852B10A9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D2C6E-EBF2-4CC5-87C2-9947ABD39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D2E84D-08B5-44EF-8898-985E955D1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1E3B00-7CD5-4229-919F-BDA4F014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A730B2-63FC-4AA3-8CD4-C637E516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2201-A6D2-4631-9F94-4755ED7B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248064-FE2D-415F-B3D8-B7766C50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85986D-557E-44AB-98AC-63BDC97B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82C024-4FCD-448F-AAF1-6622BFF0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679482-4FC4-4BA2-A9CB-402DB975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DE5458-77D5-47F7-92A8-303D2647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4A90B3-440A-4F19-8DFA-70B990E0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2D5804-00D1-4986-AE18-6CA57C08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C74B5B-16F0-4319-88AC-669FEE4BA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B0855F-3D17-42D3-AF89-DC6E26D0F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5041-846B-43E5-820B-822E6FE0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671E-7A92-4B68-871A-B9C9D792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96EB-C190-400F-85EB-6043FFFF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1EB5-97A0-40B1-AF61-3EE230EB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51CF-366C-4114-BCD8-3B2D4D20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CB36-C170-4CA4-B3AE-8224C552EDAA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6 Conector recto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7 Conector recto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8 Elipse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625B-CED0-4AC8-927B-8A6160610B4F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6 Conector recto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8BAF-DDC7-4310-B362-6323D290A745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6 Conector recto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7 Conector recto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A3A2-09EE-4E45-8E6B-461299B47B98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efac9"/>
                </a:solidFill>
                <a:latin typeface="Constantia"/>
              </a:rPr>
              <a:t>Por: Henry Pérez y Jesus Vigíl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1 Título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629040" y="456840"/>
            <a:ext cx="2057400" cy="106668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efac9"/>
                </a:solidFill>
                <a:latin typeface="Constantia"/>
              </a:rPr>
              <a:t>Ubicacion</a:t>
            </a:r>
            <a:endParaRPr b="0" lang="en-US" sz="18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629040" y="1599840"/>
            <a:ext cx="2057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efac9"/>
                </a:solidFill>
                <a:latin typeface="Constantia"/>
              </a:rPr>
              <a:t>Se extiende desde Virú hasta Lambayeque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efac9"/>
                </a:solidFill>
                <a:latin typeface="Constantia"/>
              </a:rPr>
              <a:t>Su centro principal se ubica en La Libertad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4" name="8 Marcador de posición de imagen" descr="ubce2.gif"/>
          <p:cNvPicPr/>
          <p:nvPr/>
        </p:nvPicPr>
        <p:blipFill>
          <a:blip r:embed="rId1"/>
          <a:stretch/>
        </p:blipFill>
        <p:spPr>
          <a:xfrm>
            <a:off x="281160" y="1042920"/>
            <a:ext cx="555300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28760" y="1357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La cultura Cupisnique se desarrollo entre los años 1500 a. C. a 1000 a. C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Dividida en Pre-Cupisnique: Las ceramica estaban mal hechas( sin precisión, armonia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Cupisnique 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Cupisnique Transitorio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6" name="2 Título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99680" y="1428480"/>
            <a:ext cx="828684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ffffff"/>
                </a:solidFill>
                <a:latin typeface="Constantia"/>
              </a:rPr>
              <a:t>Se basa en la agricultura de maíz, frijoles, yuca y calabazas ,pesca y la actividad de recolección de marisco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ffffff"/>
                </a:solidFill>
                <a:latin typeface="Constantia"/>
              </a:rPr>
              <a:t>Cultivaban  maní y usaban llamas para ganaderia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8" name="2 Título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http://animalsneedkisses.files.wordpress.com/2009/01/llamas.jpg"/>
          <p:cNvPicPr/>
          <p:nvPr/>
        </p:nvPicPr>
        <p:blipFill>
          <a:blip r:embed="rId2"/>
          <a:stretch/>
        </p:blipFill>
        <p:spPr>
          <a:xfrm>
            <a:off x="5929200" y="3214800"/>
            <a:ext cx="2828880" cy="3281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http://www.mundosnaturales.com/wp-content/uploads/2008/05/mani.jpg"/>
          <p:cNvPicPr/>
          <p:nvPr/>
        </p:nvPicPr>
        <p:blipFill>
          <a:blip r:embed="rId3"/>
          <a:stretch/>
        </p:blipFill>
        <p:spPr>
          <a:xfrm>
            <a:off x="1071720" y="3286080"/>
            <a:ext cx="385740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ffffff"/>
                </a:solidFill>
                <a:latin typeface="Constantia"/>
              </a:rPr>
              <a:t>Los Cupisniques creían en la vida después de la muerte, por esto enterraban a sus seres queridos y los rodeaban de artefactos para su uso en el más allá. Los pintaban de rojo, para darles vitalidad para la vida eterna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2" name="2 Título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ffffff"/>
                </a:solidFill>
                <a:latin typeface="Constantia"/>
              </a:rPr>
              <a:t>Se clasificaban en elite sacerdotal , artesanos  y  el pueblo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ffffff"/>
                </a:solidFill>
                <a:latin typeface="Constantia"/>
              </a:rPr>
              <a:t>Sus dioses gobernaban a través de el sacerdot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4" name="2 Título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629040" y="457200"/>
            <a:ext cx="2057400" cy="47160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efac9"/>
                </a:solidFill>
                <a:latin typeface="Constantia"/>
              </a:rPr>
              <a:t>Arquitectura</a:t>
            </a:r>
            <a:endParaRPr b="0" lang="en-US" sz="1800" spc="-1" strike="noStrike">
              <a:solidFill>
                <a:srgbClr val="f9f9f9"/>
              </a:solidFill>
              <a:latin typeface="Constantia"/>
            </a:endParaRPr>
          </a:p>
        </p:txBody>
      </p:sp>
      <p:grpSp>
        <p:nvGrpSpPr>
          <p:cNvPr id="186" name="8 Marcador de posición de imagen"/>
          <p:cNvGrpSpPr/>
          <p:nvPr/>
        </p:nvGrpSpPr>
        <p:grpSpPr>
          <a:xfrm>
            <a:off x="96840" y="317520"/>
            <a:ext cx="6589800" cy="6211800"/>
            <a:chOff x="96840" y="317520"/>
            <a:chExt cx="6589800" cy="6211800"/>
          </a:xfrm>
        </p:grpSpPr>
        <p:pic>
          <p:nvPicPr>
            <p:cNvPr id="187" name="8 Marcador de posición de imagen" descr=""/>
            <p:cNvPicPr/>
            <p:nvPr/>
          </p:nvPicPr>
          <p:blipFill>
            <a:blip r:embed="rId1"/>
            <a:stretch/>
          </p:blipFill>
          <p:spPr>
            <a:xfrm>
              <a:off x="96840" y="317520"/>
              <a:ext cx="6589800" cy="621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285840" y="500040"/>
              <a:ext cx="6215040" cy="58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643440" y="999720"/>
            <a:ext cx="20574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efac9"/>
                </a:solidFill>
                <a:latin typeface="Constantia"/>
              </a:rPr>
              <a:t>Emplearon mucho la piedra como su material principal.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efac9"/>
                </a:solidFill>
                <a:latin typeface="Constantia"/>
              </a:rPr>
              <a:t>Entre las piedras semipreciosas emplearon la turquesa, cristal de cuarzo y opalino para hacer collares de cuentas esféricas o cilíndricas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efac9"/>
                </a:solidFill>
                <a:latin typeface="Constantia"/>
              </a:rPr>
              <a:t>Usaron huesos para hacer sus adornos y herramientas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efac9"/>
                </a:solidFill>
                <a:latin typeface="Constantia"/>
              </a:rPr>
              <a:t>Huaca de los Reyes y Poémape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efac9"/>
                </a:solidFill>
                <a:latin typeface="Constantia"/>
              </a:rPr>
              <a:t>Templos en forma de “U”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0" name="Picture 6" descr="http://www.edarentacar.com/imagenes/huacadelosreyesprin.gif"/>
          <p:cNvPicPr/>
          <p:nvPr/>
        </p:nvPicPr>
        <p:blipFill>
          <a:blip r:embed="rId2"/>
          <a:stretch/>
        </p:blipFill>
        <p:spPr>
          <a:xfrm>
            <a:off x="428760" y="571680"/>
            <a:ext cx="6072120" cy="56275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1 Título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nstantia"/>
              </a:rPr>
              <a:t>En sus cerámicas se podía resaltar los labios o rebordes pronunciados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nstantia"/>
              </a:rPr>
              <a:t>Usaban color negro, marrón oscuro o rojo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nstantia"/>
              </a:rPr>
              <a:t>Su cerámica era parecida a la chavin y a la mochica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3" name="7 Marcador de contenido" descr="CUPISNIQUE.jpg"/>
          <p:cNvPicPr/>
          <p:nvPr/>
        </p:nvPicPr>
        <p:blipFill>
          <a:blip r:embed="rId2"/>
          <a:stretch/>
        </p:blipFill>
        <p:spPr>
          <a:xfrm>
            <a:off x="5249880" y="2300400"/>
            <a:ext cx="285732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1523880"/>
            <a:ext cx="8229600" cy="22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ffffff"/>
                </a:solidFill>
                <a:latin typeface="Constantia"/>
              </a:rPr>
              <a:t>Adoraban una divinidad con cuerpo humano y cabeza de felino y enterraban a sus muertos en tumbas junto con un abundante ajuar de lujo que comprendía vasos de cerámica y joya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5" name="2 Título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http://www.gabrielbernat.es/peru/preinca/cultpreincaicas/formativo/CUPISNIQUE/esculc4.gif"/>
          <p:cNvPicPr/>
          <p:nvPr/>
        </p:nvPicPr>
        <p:blipFill>
          <a:blip r:embed="rId2"/>
          <a:stretch/>
        </p:blipFill>
        <p:spPr>
          <a:xfrm>
            <a:off x="642960" y="3643200"/>
            <a:ext cx="371484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7T22:15:26Z</dcterms:created>
  <dc:creator>pc</dc:creator>
  <dc:description/>
  <dc:language>en-US</dc:language>
  <cp:lastModifiedBy>pc</cp:lastModifiedBy>
  <dcterms:modified xsi:type="dcterms:W3CDTF">2009-11-10T03:09:53Z</dcterms:modified>
  <cp:revision>46</cp:revision>
  <dc:subject/>
  <dc:title>Cultura Cupisnique</dc:title>
</cp:coreProperties>
</file>